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0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8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3381-6813-4237-8A3C-04C3AD0BD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B062-290E-43A9-95F6-0F2AFBFC5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7C34-855A-4DB3-8550-0DC59C415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5656-980D-45C9-B205-545B834A9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6B75-68CE-4A01-B9D3-F0ADE4EA6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F4CE-D461-4B3A-B02A-D52E30BAD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D114-F852-4B17-9AFF-1E38E2A9E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FBB6-03AF-47FD-9FCF-55EDAAF56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E7E1-2CC4-48C4-8C69-FA2827CB2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9BA9-6B9B-42BA-BC8B-CF975A41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C0BB-17BC-440D-B4D0-22A0EE69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D83D-51A3-464B-81CA-5E34DF15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0F3DE-CC43-4B8E-A149-97A91FA13165}" type="datetime">
              <a:rPr b="0" lang="it-IT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smau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1B0D3-52E7-4988-909F-D08CD2EBF951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eb.mac.home/arakhne/Home/Home.htm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hyperlink" Target="http://www.google.it/url?sa=i&amp;rct=j&amp;q=&amp;esrc=s&amp;frm=1&amp;source=images&amp;cd=&amp;cad=rja&amp;docid=88poNpfG62vmUM&amp;tbnid=E99dv8zEQtDBdM:&amp;ved=0CAUQjRw&amp;url=http://www.assinews.it/articolo.aspx?art_id=607&amp;ei=4O4XUdbUGIvIswbpuoCgDA&amp;bvm=bv.42080656,d.Yms&amp;psig=AFQjCNETuc3UDX8mHrf60SH10EGIEyhsKg&amp;ust=1360609292369209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"/>
          <p:cNvPicPr/>
          <p:nvPr/>
        </p:nvPicPr>
        <p:blipFill>
          <a:blip r:embed="rId1"/>
          <a:stretch/>
        </p:blipFill>
        <p:spPr>
          <a:xfrm rot="20644800">
            <a:off x="1332000" y="1789200"/>
            <a:ext cx="2558880" cy="2458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4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KIT PER LA DIDAT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98480" y="1125000"/>
            <a:ext cx="64008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898989"/>
                </a:solidFill>
                <a:latin typeface="Calibri"/>
              </a:rPr>
              <a:t>dalle abilità alle competenz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8" descr=""/>
          <p:cNvPicPr/>
          <p:nvPr/>
        </p:nvPicPr>
        <p:blipFill>
          <a:blip r:embed="rId2"/>
          <a:stretch/>
        </p:blipFill>
        <p:spPr>
          <a:xfrm rot="1167000">
            <a:off x="5266800" y="4339800"/>
            <a:ext cx="2433960" cy="2433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3"/>
          <a:stretch/>
        </p:blipFill>
        <p:spPr>
          <a:xfrm>
            <a:off x="1042920" y="4853160"/>
            <a:ext cx="3343320" cy="1952280"/>
          </a:xfrm>
          <a:prstGeom prst="rect">
            <a:avLst/>
          </a:prstGeom>
          <a:ln w="0">
            <a:noFill/>
          </a:ln>
        </p:spPr>
      </p:pic>
      <p:sp>
        <p:nvSpPr>
          <p:cNvPr id="46" name="Segnaposto piè di pagina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smau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000000"/>
                </a:solidFill>
                <a:latin typeface="Calibri"/>
              </a:rPr>
              <a:t>Ambito di sviluppo delle competenz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1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Area della costruzione del 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1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Area della relazione con gli alt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1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Area del rapporto con la realtà naturale e social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egnaposto piè di pagina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smau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Area della costruzione del s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97160"/>
          <a:ext cx="6096240" cy="359712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etenze chiave di cittadinanz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kills of lif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arare a d impara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etta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siero criti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siero creativ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blem solv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ision Mak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stione dello st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Segnaposto piè di pagina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smau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Area della relazione con gli altri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539640" y="981000"/>
          <a:ext cx="8064720" cy="5524560"/>
        </p:xfrm>
        <a:graphic>
          <a:graphicData uri="http://schemas.openxmlformats.org/drawingml/2006/table">
            <a:tbl>
              <a:tblPr/>
              <a:tblGrid>
                <a:gridCol w="4032360"/>
                <a:gridCol w="40323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etenze chiave di cittadinanz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kills of lif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unica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siero critic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siero creativ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blem solving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5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laborare e partecipa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unicazione efficac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ocoscienz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stione delle emozioni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patia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stione dello stres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Segnaposto piè di pagina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smau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Area del rapporto con la realtà naturale e sociale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68360" y="1484280"/>
          <a:ext cx="7607160" cy="4024440"/>
        </p:xfrm>
        <a:graphic>
          <a:graphicData uri="http://schemas.openxmlformats.org/drawingml/2006/table">
            <a:tbl>
              <a:tblPr/>
              <a:tblGrid>
                <a:gridCol w="3803760"/>
                <a:gridCol w="38034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etenze chiave di cittadinanz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kills of lif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solvere problemi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viduare collegamenti e relazion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quisire ed interpretare l’informazi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siero criti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siero creativ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blem solv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ision Mak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Segnaposto piè di pagina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smau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Le Life Ski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Segnaposto contenuto 2" descr=""/>
          <p:cNvPicPr/>
          <p:nvPr/>
        </p:nvPicPr>
        <p:blipFill>
          <a:blip r:embed="rId1"/>
          <a:stretch/>
        </p:blipFill>
        <p:spPr>
          <a:xfrm>
            <a:off x="281160" y="1407960"/>
            <a:ext cx="8412120" cy="4724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 rot="20249400">
            <a:off x="5027760" y="2063520"/>
            <a:ext cx="3484440" cy="2319120"/>
          </a:xfrm>
          <a:prstGeom prst="rect">
            <a:avLst/>
          </a:prstGeom>
          <a:ln w="0">
            <a:noFill/>
          </a:ln>
        </p:spPr>
      </p:pic>
      <p:sp>
        <p:nvSpPr>
          <p:cNvPr id="95" name="Segnaposto piè di pagina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smau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Sfera cognitiva o sfera emotiv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79280" y="1935000"/>
          <a:ext cx="8569440" cy="2286000"/>
        </p:xfrm>
        <a:graphic>
          <a:graphicData uri="http://schemas.openxmlformats.org/drawingml/2006/table">
            <a:tbl>
              <a:tblPr/>
              <a:tblGrid>
                <a:gridCol w="1714680"/>
                <a:gridCol w="1382760"/>
                <a:gridCol w="2179440"/>
                <a:gridCol w="1577880"/>
                <a:gridCol w="1714680"/>
              </a:tblGrid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siero criti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siero creativ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blem solv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ision mak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unicazione effic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azioni interpersonal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ostim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pat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stione delle emozion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stione dello str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98" name="Ovale 4"/>
          <p:cNvSpPr/>
          <p:nvPr/>
        </p:nvSpPr>
        <p:spPr>
          <a:xfrm>
            <a:off x="179280" y="4221000"/>
            <a:ext cx="4608720" cy="72072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b050"/>
                </a:solidFill>
                <a:latin typeface="Calibri"/>
              </a:rPr>
              <a:t>Sfera cognit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Ovale 5"/>
          <p:cNvSpPr/>
          <p:nvPr/>
        </p:nvSpPr>
        <p:spPr>
          <a:xfrm>
            <a:off x="3967200" y="4221000"/>
            <a:ext cx="4608360" cy="72072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Calibri"/>
              </a:rPr>
              <a:t>Sfera emot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reccia bidirezionale orizzontale 6"/>
          <p:cNvSpPr/>
          <p:nvPr/>
        </p:nvSpPr>
        <p:spPr>
          <a:xfrm>
            <a:off x="631800" y="5157720"/>
            <a:ext cx="7921800" cy="432000"/>
          </a:xfrm>
          <a:prstGeom prst="leftRightArrow">
            <a:avLst>
              <a:gd name="adj1" fmla="val 50000"/>
              <a:gd name="adj2" fmla="val 50004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egnaposto piè di pagina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smau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Autocoscienza</a:t>
            </a:r>
            <a:br>
              <a:rPr sz="4000"/>
            </a:br>
            <a:r>
              <a:rPr b="0" i="1" lang="it-IT" sz="3200" spc="-1" strike="noStrike">
                <a:solidFill>
                  <a:srgbClr val="000000"/>
                </a:solidFill>
                <a:latin typeface="Calibri"/>
              </a:rPr>
              <a:t>(capacità di leggere dentro se stess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600200"/>
            <a:ext cx="519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Conoscere se stessi, il proprio carattere, i propri bisogni e desideri, i propri punti deboli ed i propri punti forti; è condizione indispensabile per la gestione dello stress, la comunicazione efficace, le relazioni interpersonali positive e l’empati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AutoShape 2"/>
          <p:cNvSpPr/>
          <p:nvPr/>
        </p:nvSpPr>
        <p:spPr>
          <a:xfrm>
            <a:off x="63360" y="-1620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 rot="905400">
            <a:off x="5659560" y="2781360"/>
            <a:ext cx="3213000" cy="2889360"/>
          </a:xfrm>
          <a:prstGeom prst="rect">
            <a:avLst/>
          </a:prstGeom>
          <a:ln w="0">
            <a:noFill/>
          </a:ln>
        </p:spPr>
      </p:pic>
      <p:sp>
        <p:nvSpPr>
          <p:cNvPr id="106" name="Segnaposto piè di pagina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smau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 rot="1273200">
            <a:off x="5940360" y="980640"/>
            <a:ext cx="2619360" cy="17431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Gestione delle emozioni</a:t>
            </a:r>
            <a:br>
              <a:rPr sz="4000"/>
            </a:br>
            <a:r>
              <a:rPr b="0" i="1" lang="it-IT" sz="2400" spc="-1" strike="noStrike">
                <a:solidFill>
                  <a:srgbClr val="000000"/>
                </a:solidFill>
                <a:latin typeface="Calibri"/>
              </a:rPr>
              <a:t>(capacità di riconoscere le proprie emozioni e quelle degli altr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79280" y="2181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c0504d"/>
                </a:solidFill>
                <a:latin typeface="Calibri"/>
              </a:rPr>
              <a:t>«essere consapevoli di come le emozioni influenzano il comportamento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n modo 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i="1" lang="it-IT" sz="3200" spc="-1" strike="noStrike">
                <a:solidFill>
                  <a:srgbClr val="c0504d"/>
                </a:solidFill>
                <a:latin typeface="Calibri"/>
              </a:rPr>
              <a:t>«riuscire a gestirle in modo appropriato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e a regolarle opportunament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egnaposto piè di pagina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smau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Gestione dello stress</a:t>
            </a:r>
            <a:br>
              <a:rPr sz="4000"/>
            </a:br>
            <a:r>
              <a:rPr b="0" i="1" lang="it-IT" sz="3600" spc="-1" strike="noStrike">
                <a:solidFill>
                  <a:srgbClr val="000000"/>
                </a:solidFill>
                <a:latin typeface="Calibri"/>
              </a:rPr>
              <a:t>(capacità di governare le tensioni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8000" y="1633680"/>
            <a:ext cx="482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Saper riconoscere e governare le fonti di tensi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c0504d"/>
                </a:solidFill>
                <a:latin typeface="Calibri"/>
              </a:rPr>
              <a:t>«sia tramite cambiamenti nell’ambiente o nello stile di vita, sia tramite la capacità di rilassarsi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5651640" y="1628640"/>
            <a:ext cx="2881080" cy="4197600"/>
          </a:xfrm>
          <a:prstGeom prst="rect">
            <a:avLst/>
          </a:prstGeom>
          <a:ln w="0">
            <a:noFill/>
          </a:ln>
        </p:spPr>
      </p:pic>
      <p:sp>
        <p:nvSpPr>
          <p:cNvPr id="114" name="Segnaposto piè di pagina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smau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0" y="27000"/>
            <a:ext cx="1990800" cy="22953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Senso critico</a:t>
            </a:r>
            <a:br>
              <a:rPr sz="4000"/>
            </a:br>
            <a:r>
              <a:rPr b="0" i="1" lang="it-IT" sz="3200" spc="-1" strike="noStrike">
                <a:solidFill>
                  <a:srgbClr val="000000"/>
                </a:solidFill>
                <a:latin typeface="Calibri"/>
              </a:rPr>
              <a:t>(capacità di analizzare e valutare le situazion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Saper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c0504d"/>
                </a:solidFill>
                <a:latin typeface="Calibri"/>
              </a:rPr>
              <a:t>«</a:t>
            </a:r>
            <a:r>
              <a:rPr b="0" i="1" lang="it-IT" sz="3000" spc="-1" strike="noStrike">
                <a:solidFill>
                  <a:srgbClr val="c0504d"/>
                </a:solidFill>
                <a:latin typeface="Calibri"/>
              </a:rPr>
              <a:t>analizzare informazioni ed esperienze in modo oggettivo, valutandone vantaggi e svantaggi, al fine di arrivare ad una decisione più consapevole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Riconoscendo e valutand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c0504d"/>
                </a:solidFill>
                <a:latin typeface="Calibri"/>
              </a:rPr>
              <a:t>«</a:t>
            </a:r>
            <a:r>
              <a:rPr b="0" i="1" lang="it-IT" sz="3000" spc="-1" strike="noStrike">
                <a:solidFill>
                  <a:srgbClr val="c0504d"/>
                </a:solidFill>
                <a:latin typeface="Calibri"/>
              </a:rPr>
              <a:t>i diversi fattori che influenzano gli atteggiamenti e il comportamento , quali ad esempio la pressione dei coetanei e il comportamento dei mass media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egnaposto piè di pagina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smau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Cosa si intende per </a:t>
            </a:r>
            <a:r>
              <a:rPr b="1" lang="it-IT" sz="4400" spc="-1" strike="noStrike">
                <a:solidFill>
                  <a:srgbClr val="ff0000"/>
                </a:solidFill>
                <a:latin typeface="Calibri"/>
              </a:rPr>
              <a:t>competenz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74760" y="335772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l termine </a:t>
            </a: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COMPETENTE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indica una persona che in un certo ambito sociale, di studio o di lavoro, è in grado di svolgere bene un’attività non generica, che richiede conoscenze teoriche, pratiche e abilità più o meno comples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AutoShape 2"/>
          <p:cNvSpPr/>
          <p:nvPr/>
        </p:nvSpPr>
        <p:spPr>
          <a:xfrm>
            <a:off x="63360" y="-1620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 rot="20511600">
            <a:off x="1272960" y="1490400"/>
            <a:ext cx="3057480" cy="1495440"/>
          </a:xfrm>
          <a:prstGeom prst="rect">
            <a:avLst/>
          </a:prstGeom>
          <a:ln w="0">
            <a:noFill/>
          </a:ln>
        </p:spPr>
      </p:pic>
      <p:sp>
        <p:nvSpPr>
          <p:cNvPr id="51" name="Segnaposto piè di pagina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smau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 rot="1518600">
            <a:off x="5165640" y="2357280"/>
            <a:ext cx="4003920" cy="2664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76240" y="3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Decision making</a:t>
            </a:r>
            <a:br>
              <a:rPr sz="4000"/>
            </a:br>
            <a:r>
              <a:rPr b="0" i="1" lang="it-IT" sz="3200" spc="-1" strike="noStrike">
                <a:solidFill>
                  <a:srgbClr val="000000"/>
                </a:solidFill>
                <a:latin typeface="Calibri"/>
              </a:rPr>
              <a:t>(capacità di prendere decision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54244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Saper decidere in modo consapevole e costruttiv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c0504d"/>
                </a:solidFill>
                <a:latin typeface="Calibri"/>
              </a:rPr>
              <a:t>«nelle diverse situazioni e contesti di vita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Saper elabor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c0504d"/>
                </a:solidFill>
                <a:latin typeface="Calibri"/>
              </a:rPr>
              <a:t>«in modo attivo il processo decisionale può avere implicazioni positive sulla salute attraverso una valutazione delle diverse opzioni e delle conseguenze che esse implicano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egnaposto piè di pagina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smau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Problem solving</a:t>
            </a:r>
            <a:br>
              <a:rPr sz="4000"/>
            </a:br>
            <a:r>
              <a:rPr b="0" i="1" lang="it-IT" sz="3600" spc="-1" strike="noStrike">
                <a:solidFill>
                  <a:srgbClr val="000000"/>
                </a:solidFill>
                <a:latin typeface="Calibri"/>
              </a:rPr>
              <a:t>(capacità di risolvere i problemi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Saper affrontare e risolvere in modo costruttivi i diversi problemi c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c0504d"/>
                </a:solidFill>
                <a:latin typeface="Calibri"/>
              </a:rPr>
              <a:t>«se lasciati irrisolti, possono causare stress mentale e tensioni fisiche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239760" y="256536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"/>
          <p:cNvPicPr/>
          <p:nvPr/>
        </p:nvPicPr>
        <p:blipFill>
          <a:blip r:embed="rId2"/>
          <a:stretch/>
        </p:blipFill>
        <p:spPr>
          <a:xfrm>
            <a:off x="3564000" y="2924280"/>
            <a:ext cx="2209680" cy="20667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"/>
          <p:cNvPicPr/>
          <p:nvPr/>
        </p:nvPicPr>
        <p:blipFill>
          <a:blip r:embed="rId3"/>
          <a:stretch/>
        </p:blipFill>
        <p:spPr>
          <a:xfrm>
            <a:off x="6654960" y="257184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28" name="Segnaposto piè di pagina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smau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2268360" y="2565360"/>
            <a:ext cx="4670640" cy="16639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Creatività </a:t>
            </a:r>
            <a:br>
              <a:rPr sz="4000"/>
            </a:br>
            <a:r>
              <a:rPr b="0" i="1" lang="it-IT" sz="2400" spc="-1" strike="noStrike">
                <a:solidFill>
                  <a:srgbClr val="000000"/>
                </a:solidFill>
                <a:latin typeface="Calibri"/>
              </a:rPr>
              <a:t>(capacità di affrontare in modo flessibile ogni genere di situazion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3964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Saper trovare soluzioni e idee originali, competenza c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c0504d"/>
                </a:solidFill>
                <a:latin typeface="Calibri"/>
              </a:rPr>
              <a:t>«contribuisce sia al decision making che al problem solving, permettendo di esplorare le alternative possibili e le conseguenze delle diverse opzioni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egnaposto piè di pagina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smau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6862680" y="4867200"/>
            <a:ext cx="2295720" cy="19908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Comunicazione efficace</a:t>
            </a:r>
            <a:br>
              <a:rPr sz="4000"/>
            </a:br>
            <a:r>
              <a:rPr b="0" i="1" lang="it-IT" sz="3600" spc="-1" strike="noStrike">
                <a:solidFill>
                  <a:srgbClr val="000000"/>
                </a:solidFill>
                <a:latin typeface="Calibri"/>
              </a:rPr>
              <a:t>(capacità di esprimersi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Sapersi esprimere in ogni situazione particolare sia a livello verbale che non verbale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0504d"/>
                </a:solidFill>
                <a:latin typeface="Calibri"/>
              </a:rPr>
              <a:t>«</a:t>
            </a:r>
            <a:r>
              <a:rPr b="0" i="1" lang="it-IT" sz="2800" spc="-1" strike="noStrike">
                <a:solidFill>
                  <a:srgbClr val="c0504d"/>
                </a:solidFill>
                <a:latin typeface="Calibri"/>
              </a:rPr>
              <a:t>in modo efficace e congruo alla propria cultura»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Dichiaran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c0504d"/>
                </a:solidFill>
                <a:latin typeface="Calibri"/>
              </a:rPr>
              <a:t>« opinioni e desideri, ma anche bisogni e sentimenti, ascoltando con attenzione gli altri per capirli e chiedendo se necessario, aiuto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egnaposto piè di pagina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smau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 rot="1125600">
            <a:off x="6975360" y="2204640"/>
            <a:ext cx="2152800" cy="2124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Empatia</a:t>
            </a:r>
            <a:br>
              <a:rPr sz="4000"/>
            </a:br>
            <a:r>
              <a:rPr b="0" i="1" lang="it-IT" sz="3200" spc="-1" strike="noStrike">
                <a:solidFill>
                  <a:srgbClr val="000000"/>
                </a:solidFill>
                <a:latin typeface="Calibri"/>
              </a:rPr>
              <a:t>(capacità di comprendere gli altr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599840"/>
            <a:ext cx="6518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Saper comprendere ed ascoltare gli altri, immedesimandosi in lo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c0504d"/>
                </a:solidFill>
                <a:latin typeface="Calibri"/>
              </a:rPr>
              <a:t>«anche in situazioni non familiari»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Accettandoli e comprendendoli e migliorando le relazioni sociali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c0504d"/>
                </a:solidFill>
                <a:latin typeface="Calibri"/>
              </a:rPr>
              <a:t>«soprattutto nei confronti di diversità etniche e culturali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egnaposto piè di pagina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smau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 rot="19512000">
            <a:off x="4998960" y="2879640"/>
            <a:ext cx="3865680" cy="23734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920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Skills per le relazioni interpersonali</a:t>
            </a:r>
            <a:br>
              <a:rPr sz="4000"/>
            </a:br>
            <a:r>
              <a:rPr b="0" i="1" lang="it-IT" sz="2800" spc="-1" strike="noStrike">
                <a:solidFill>
                  <a:srgbClr val="000000"/>
                </a:solidFill>
                <a:latin typeface="Calibri"/>
              </a:rPr>
              <a:t>(capacità di interagire e relazionarsi con gli altri in modo positiv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Sapersi mettere in relazione costruttiva con gli alt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c0504d"/>
                </a:solidFill>
                <a:latin typeface="Calibri"/>
              </a:rPr>
              <a:t>«saper creare e mantenere relazioni significative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Ma anche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0504d"/>
                </a:solidFill>
                <a:latin typeface="Calibri"/>
              </a:rPr>
              <a:t>«</a:t>
            </a:r>
            <a:r>
              <a:rPr b="0" i="1" lang="it-IT" sz="3200" spc="-1" strike="noStrike">
                <a:solidFill>
                  <a:srgbClr val="c0504d"/>
                </a:solidFill>
                <a:latin typeface="Calibri"/>
              </a:rPr>
              <a:t>essere in grado di interrompere le relazioni in modo costruttivo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egnaposto piè di pagina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smau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Biblliografi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Kit bussola: teorie, metodologie e strumenti didattici ed educativi al servizio della didattica  a cura di Ercoli Lu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Sitografi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Alberto Pian, </a:t>
            </a:r>
            <a:r>
              <a:rPr b="0" lang="it-IT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eb.mac.home/arakhne/Home/Home.html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Ufficio scolastico provinciale di Mila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www.milano.istruzione.lombardia.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egnaposto piè di pagina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smau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Nella scuola??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Il termine «</a:t>
            </a:r>
            <a:r>
              <a:rPr b="1" lang="it-IT" sz="3000" spc="-1" strike="noStrike">
                <a:solidFill>
                  <a:srgbClr val="ff0000"/>
                </a:solidFill>
                <a:latin typeface="Calibri"/>
              </a:rPr>
              <a:t>competenza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» viene usato per indicare gli obiettivi formativi da raggiungersi da parte degli studenti, sia in relazione al sistema nel suo complesso sia alla specifica offerta formativa delle singole istituzioni scolastich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Attraverso le ultime riforme (Berlinguer-Moratti-Fioroni) si è passati dal </a:t>
            </a:r>
            <a:r>
              <a:rPr b="0" lang="it-IT" sz="3000" spc="-1" strike="noStrike">
                <a:solidFill>
                  <a:srgbClr val="ff0000"/>
                </a:solidFill>
                <a:latin typeface="Calibri"/>
              </a:rPr>
              <a:t>PROGRAMMA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 alla </a:t>
            </a:r>
            <a:r>
              <a:rPr b="0" lang="it-IT" sz="3000" spc="-1" strike="noStrike">
                <a:solidFill>
                  <a:srgbClr val="ff0000"/>
                </a:solidFill>
                <a:latin typeface="Calibri"/>
              </a:rPr>
              <a:t>PROGRAMMAZIONE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Si è rovesciata la prospettiva dagli </a:t>
            </a:r>
            <a:r>
              <a:rPr b="0" lang="it-IT" sz="3000" spc="-1" strike="noStrike">
                <a:solidFill>
                  <a:srgbClr val="ff0000"/>
                </a:solidFill>
                <a:latin typeface="Calibri"/>
              </a:rPr>
              <a:t>input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 di insegnamento (i programmi) agli </a:t>
            </a:r>
            <a:r>
              <a:rPr b="0" lang="it-IT" sz="3000" spc="-1" strike="noStrike">
                <a:solidFill>
                  <a:srgbClr val="ff0000"/>
                </a:solidFill>
                <a:latin typeface="Calibri"/>
              </a:rPr>
              <a:t>output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 di apprendimento (i risultati in termini di competenze acquisite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egnaposto piè di pagina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smau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s://encrypted-tbn1.gstatic.com/images?q=tbn:ANd9GcSS2b--PUMJGy53qF8yQeHcBgFRjeSY21-w8Bs0C8M21uALCM0A"/>
          <p:cNvPicPr/>
          <p:nvPr/>
        </p:nvPicPr>
        <p:blipFill>
          <a:blip r:embed="rId1"/>
          <a:stretch/>
        </p:blipFill>
        <p:spPr>
          <a:xfrm>
            <a:off x="7462800" y="1197000"/>
            <a:ext cx="1657440" cy="16556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Quali  competenze chiave deve acquisire un alunno,  al termine dell’istruzione obbligatoria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1989000"/>
            <a:ext cx="785988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L’intreccio tra gli assi culturali strategici (dei linguaggi, matematico, scientifico tecnologico, storico sociale) e le competenze trasversali permette la costruzione ed il conseguimento delle competenze chiave di cittadinanza, che, attesa la natura orientativa e propedeutica dell’istruzione obbligatoria,  si ritiene di dover proporre come obiettivo da raggiungere al suo termin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egnaposto piè di pagina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smau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Titolo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60" name="Segnaposto contenuto 2" descr=""/>
          <p:cNvPicPr/>
          <p:nvPr/>
        </p:nvPicPr>
        <p:blipFill>
          <a:blip r:embed="rId2"/>
          <a:stretch/>
        </p:blipFill>
        <p:spPr>
          <a:xfrm>
            <a:off x="231840" y="712800"/>
            <a:ext cx="8680320" cy="4608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http://www.assinews.it/public/photogallery/Fotolia_martello.jpg">
            <a:hlinkClick r:id="rId3"/>
          </p:cNvPr>
          <p:cNvPicPr/>
          <p:nvPr/>
        </p:nvPicPr>
        <p:blipFill>
          <a:blip r:embed="rId4"/>
          <a:stretch/>
        </p:blipFill>
        <p:spPr>
          <a:xfrm rot="20802600">
            <a:off x="468360" y="3573360"/>
            <a:ext cx="2476440" cy="2476440"/>
          </a:xfrm>
          <a:prstGeom prst="rect">
            <a:avLst/>
          </a:prstGeom>
          <a:ln w="0">
            <a:noFill/>
          </a:ln>
        </p:spPr>
      </p:pic>
      <p:sp>
        <p:nvSpPr>
          <p:cNvPr id="62" name="CasellaDiTesto 3"/>
          <p:cNvSpPr/>
          <p:nvPr/>
        </p:nvSpPr>
        <p:spPr>
          <a:xfrm>
            <a:off x="2916360" y="5681520"/>
            <a:ext cx="59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Si possono suddividere in tre ambiti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egnaposto piè di pagina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smau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-371520" y="-146160"/>
            <a:ext cx="9266400" cy="75470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Quali ambiti??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f497d"/>
                </a:solidFill>
                <a:latin typeface="Calibri"/>
              </a:rPr>
              <a:t>La costruzione del s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f497d"/>
                </a:solidFill>
                <a:latin typeface="Calibri"/>
              </a:rPr>
              <a:t>La costruzione di corrette e significative relazioni con gli altr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f497d"/>
                </a:solidFill>
                <a:latin typeface="Calibri"/>
              </a:rPr>
              <a:t>Una corretta e produttiva interazione con la realtà sociale e natura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egnaposto piè di pagina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smau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 rot="20814000">
            <a:off x="2123640" y="1550520"/>
            <a:ext cx="4751640" cy="30895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Come raggiungere queste competenze?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39640" y="4868640"/>
            <a:ext cx="8229600" cy="14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0504d"/>
                </a:solidFill>
                <a:latin typeface="Calibri"/>
              </a:rPr>
              <a:t>ATTRAVERSO LO SVILUPPO DELLE ABILITA’ SOCIALI (SKILL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egnaposto piè di pagina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smau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 rot="841200">
            <a:off x="5528880" y="4157640"/>
            <a:ext cx="3611520" cy="23954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Lo sviluppo delle abilità sociali </a:t>
            </a: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(skills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Per l’OMS, le life skills sono abilità che permettono di gestire efficacemente le richieste e le sfide della vita quotidia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Permettono all’individuo di adottare strategie efficaci per affrontare i diversi problemi che si presentano nel corso della vi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egnaposto piè di pagina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smau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4151160" y="4149720"/>
            <a:ext cx="4969080" cy="242892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La scuola è il luogo privilegiato di promozione delle life skil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i="1" lang="it-IT" sz="3200" spc="-1" strike="noStrike">
                <a:solidFill>
                  <a:srgbClr val="000000"/>
                </a:solidFill>
                <a:latin typeface="Calibri"/>
              </a:rPr>
              <a:t>ogni scuola deve mettere in grado i bambini ed adolescenti di imparare ad affrontare gli aspetti critici della vita, sviluppando le life skills attraverso programmi educativi specifici individuati come strategia ottimale per raggiungere l’obiettivo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egnaposto piè di pagina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smau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0T15:48:06Z</dcterms:created>
  <dc:creator>Maria Pia</dc:creator>
  <dc:description/>
  <dc:language>en-US</dc:language>
  <cp:lastModifiedBy>Smauro</cp:lastModifiedBy>
  <dcterms:modified xsi:type="dcterms:W3CDTF">2013-02-24T18:21:35Z</dcterms:modified>
  <cp:revision>60</cp:revision>
  <dc:subject/>
  <dc:title>KIT PER LA DIDATTICA</dc:title>
</cp:coreProperties>
</file>